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5B2-ED29-4BEE-8266-4FF89BD3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2A9-833A-4D7A-8E6B-48F6EBFD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C01-9F78-4D79-A277-C15FE300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3AD-705B-4790-BC70-3D7DA4DE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15D-9C2A-4DFF-8E5B-EDA6251E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C56-A43C-4015-B486-A2D0E9C2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26F-C19B-46CC-99AF-7C40D8B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5FE-8DB0-4182-8B61-92FC0F5F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793-1F65-48C2-85A8-6D85F4D4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6D3-755A-47C7-9FDF-46E7107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195-94FE-465A-A52A-CB84BE3C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0FE-4020-42A4-A4F9-602D38FE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7D24-52B4-4BF4-98C6-BFD00E826B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07920" y="-285840"/>
            <a:ext cx="732816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7228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come up to the front and get a fact sheet, then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find your seat (name on sticky note)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3 pa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808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exam, PA1, PA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Rectangle 6" descr=""/>
          <p:cNvPicPr/>
          <p:nvPr/>
        </p:nvPicPr>
        <p:blipFill>
          <a:blip r:embed="rId1"/>
          <a:stretch/>
        </p:blipFill>
        <p:spPr>
          <a:xfrm>
            <a:off x="-133200" y="6480"/>
            <a:ext cx="949644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83808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in class, MC on Exam days (late Jan.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838080" y="2859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= 15%, MC = 70% of Final Exam gra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Rectangle 13" descr=""/>
          <p:cNvPicPr/>
          <p:nvPr/>
        </p:nvPicPr>
        <p:blipFill>
          <a:blip r:embed="rId2"/>
          <a:stretch/>
        </p:blipFill>
        <p:spPr>
          <a:xfrm>
            <a:off x="1359000" y="3468600"/>
            <a:ext cx="6205320" cy="1116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4"/>
          <p:cNvSpPr/>
          <p:nvPr/>
        </p:nvSpPr>
        <p:spPr>
          <a:xfrm>
            <a:off x="1828800" y="4495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1828800" y="5181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182880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(MC &amp; PA) = 20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8" descr=""/>
          <p:cNvPicPr/>
          <p:nvPr/>
        </p:nvPicPr>
        <p:blipFill>
          <a:blip r:embed="rId1"/>
          <a:stretch/>
        </p:blipFill>
        <p:spPr>
          <a:xfrm>
            <a:off x="2487600" y="500040"/>
            <a:ext cx="4046400" cy="1116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304920" y="1647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enske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09480" y="1868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LOVE college football!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 and Applied Ma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09480" y="5907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year with CB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847800" y="-139680"/>
            <a:ext cx="7461000" cy="1146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NH, born in Phill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09480" y="1676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Philadelphia Univers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09480" y="31240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ives locally with her husband and 2 ki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One just started @ Taman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One in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grade at Jamis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0948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ves horseback riding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09480" y="2438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sists in all Math clas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0948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en with CB for 7 years, after career in advertising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165240" y="-208080"/>
            <a:ext cx="8723160" cy="1324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609480" y="116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Real World” ma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09480" y="177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Business” ma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9480" y="253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you for the kind of math that you will do in your everyday liv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09480" y="390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When will I ever use this stuff??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DAY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09480" y="5068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eed this to graduate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057400" y="129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com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05740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hecking and Savings Accou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Rectangle 6" descr=""/>
          <p:cNvPicPr/>
          <p:nvPr/>
        </p:nvPicPr>
        <p:blipFill>
          <a:blip r:embed="rId1"/>
          <a:stretch/>
        </p:blipFill>
        <p:spPr>
          <a:xfrm>
            <a:off x="30240" y="165240"/>
            <a:ext cx="8974080" cy="987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2057400" y="2478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redit Car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0574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ca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057400" y="3621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hou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057400" y="423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ans and Mortgag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057400" y="484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2057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vest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 (lots of handouts!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 (will keep in class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Rectangle 6" descr=""/>
          <p:cNvPicPr/>
          <p:nvPr/>
        </p:nvPicPr>
        <p:blipFill>
          <a:blip r:embed="rId1"/>
          <a:stretch/>
        </p:blipFill>
        <p:spPr>
          <a:xfrm>
            <a:off x="2541600" y="-189000"/>
            <a:ext cx="3578040" cy="111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 (scientific, 4 function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Rectangle 8" descr=""/>
          <p:cNvPicPr/>
          <p:nvPr/>
        </p:nvPicPr>
        <p:blipFill>
          <a:blip r:embed="rId2"/>
          <a:stretch/>
        </p:blipFill>
        <p:spPr>
          <a:xfrm>
            <a:off x="2554200" y="2786040"/>
            <a:ext cx="300528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7432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74320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Rectangle 6" descr=""/>
          <p:cNvPicPr/>
          <p:nvPr/>
        </p:nvPicPr>
        <p:blipFill>
          <a:blip r:embed="rId1"/>
          <a:stretch/>
        </p:blipFill>
        <p:spPr>
          <a:xfrm>
            <a:off x="2548080" y="-189000"/>
            <a:ext cx="4151160" cy="1116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274320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4016160" cy="111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27432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4320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743200" y="5181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2743200" y="583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90512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Rectangle 6" descr=""/>
          <p:cNvPicPr/>
          <p:nvPr/>
        </p:nvPicPr>
        <p:blipFill>
          <a:blip r:embed="rId1"/>
          <a:stretch/>
        </p:blipFill>
        <p:spPr>
          <a:xfrm>
            <a:off x="1768320" y="-18900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905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ts/sunglas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Rectangle 8" descr=""/>
          <p:cNvPicPr/>
          <p:nvPr/>
        </p:nvPicPr>
        <p:blipFill>
          <a:blip r:embed="rId2"/>
          <a:stretch/>
        </p:blipFill>
        <p:spPr>
          <a:xfrm>
            <a:off x="2560680" y="3084480"/>
            <a:ext cx="315756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1905120" y="423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905120" y="49165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905120" y="560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91440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# pts. Earned / # pts. possib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9144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W, quizzes, tests, projects, etc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Rectangle 6" descr=""/>
          <p:cNvPicPr/>
          <p:nvPr/>
        </p:nvPicPr>
        <p:blipFill>
          <a:blip r:embed="rId1"/>
          <a:stretch/>
        </p:blipFill>
        <p:spPr>
          <a:xfrm>
            <a:off x="2968560" y="-109440"/>
            <a:ext cx="3114720" cy="111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91440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914400" y="2859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rmal grading scal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93% = A, 90% = A-, etc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Rectangle 13" descr=""/>
          <p:cNvPicPr/>
          <p:nvPr/>
        </p:nvPicPr>
        <p:blipFill>
          <a:blip r:embed="rId2"/>
          <a:stretch/>
        </p:blipFill>
        <p:spPr>
          <a:xfrm>
            <a:off x="2719440" y="3468600"/>
            <a:ext cx="3784680" cy="1116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4"/>
          <p:cNvSpPr/>
          <p:nvPr/>
        </p:nvSpPr>
        <p:spPr>
          <a:xfrm>
            <a:off x="27432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274320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practi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27432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08-09-02T14:45:05Z</dcterms:modified>
  <cp:revision>25</cp:revision>
  <dc:subject/>
  <dc:title>Slide 1</dc:title>
</cp:coreProperties>
</file>